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D795-35BE-438F-90AF-6756C6C0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EF8B-AAD6-4CAC-ACFF-A4E5AD97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2F02-8822-4035-87F7-5A6D953C1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BD41-D390-4F8B-8255-E3F33DCA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ABDB-66C0-4195-996D-832EA8B8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3F03-7BE3-4D36-943E-6465488F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94DE-D7FA-4C7D-8DE2-8E8CD2AF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10D4-6891-4812-BBCA-0144718D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087D-19A3-4CB0-B7A8-252D4D84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F2CF-F1B8-4CAC-80E5-666D9FC1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F28D-ED1D-4657-A0A6-6B76CAF3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DC04-4A11-4085-A1B2-67743A33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4269-AF7D-4E41-8C8C-BA764393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ECCD-6A6A-4D9F-8C87-35FB2D4B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3207-8393-424A-84EF-685AA004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FE57-DAC2-4CDD-B882-D98AEC34A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33B9-5360-4014-9463-FD903E8D7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70E8-3220-4679-9FDA-5FCC4C47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E465-5A36-49A9-BB18-70A456D4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CC81-FE2B-4635-AC91-3E0C672A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F0E1-C1EB-4B83-93EE-866863CB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F28F-E257-4F9B-98DB-7EB2C726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610B-103B-463F-B742-2BD4A730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C9AB-B024-42F7-B03F-98A96E24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508E-9789-4212-AE14-2C356C7BEF0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236000" y="333360"/>
            <a:ext cx="151272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39640" y="623736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IVL Plenary 2006, Lausa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71FD-1BCF-4BE3-BC2F-9808DC1CD84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512720" cy="977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5000" spc="-1" strike="noStrike">
                <a:solidFill>
                  <a:srgbClr val="006633"/>
                </a:solidFill>
                <a:latin typeface="Garamond"/>
              </a:rPr>
              <a:t>CIVL Competition Software and database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Agust Gudmund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Vice-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Chairman of the Software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Internet and loc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modules available at the 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modules also standalone Windows Cl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ata transfer to and from the CIVL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Benefi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or CIVL faster and more accurat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rganiz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REE competition software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Get data from CIVL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Easy delivery of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ccurate personal data (like spelling of na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Online regi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ore information on results and WP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Time and mo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Timeframe (inten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atabase ** Version 1.0 almost Ready 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Competitions, pilots, WPRS, inter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ro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curacy 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XC **Before year end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Budget is to make sure the project will not stop because of money shortage.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Hopefully it will not all be used. 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One year worth of Sanction fe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urrent syst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- pilot ranking  (on CIVL we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ce 2003 –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any flight verification systems (gp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G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any other systems (some fre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ther systems (online registration..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New software projec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– pilot ran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eb client if Internet connection i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indows client for standalone 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Data is transferred from CIVL competi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Results returned to the CIV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For all CIVL disciplines</a:t>
            </a: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1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2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5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Aeroba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ccu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erobatic (solo and syncr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000" spc="-1" strike="noStrike">
                <a:solidFill>
                  <a:srgbClr val="000000"/>
                </a:solidFill>
                <a:latin typeface="Arial"/>
              </a:rPr>
              <a:t>Different needs for tasks/scoring/WP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IVL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 database (register even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ay sanction f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Results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ask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Scores of every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racklo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Total 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plil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Pilots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have unique 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pilots 2001-2005 already regist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and update own personal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for compet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ompet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egister a competi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participants (already in the databa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reate ta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o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task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competition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competition to WPRS </a:t>
            </a: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and CIVL databa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Ran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disciplines (and fema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fferent WPRS formulas for each discip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nking updated regula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ore information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Tasks and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WPRS (with backward his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Scoring for all discip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curacy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robati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X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ifferent scoring formu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0:30:12Z</dcterms:created>
  <dc:creator>ag</dc:creator>
  <dc:description/>
  <dc:language>en-US</dc:language>
  <cp:lastModifiedBy>ag</cp:lastModifiedBy>
  <dcterms:modified xsi:type="dcterms:W3CDTF">2006-02-11T10:45:48Z</dcterms:modified>
  <cp:revision>15</cp:revision>
  <dc:subject/>
  <dc:title>CIVL Competition Software </dc:title>
</cp:coreProperties>
</file>