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716C-1F29-4DEA-81A4-1F364AD94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7A90-EA2A-4A5D-9382-A5BF396A6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89A6-8587-4CE2-AD7F-CC85EA377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4597-BA2E-40C0-BF01-797ECCC6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1067-8A9E-42EA-8DDA-5BD768244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322A-B890-43A7-864C-1E8EB452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0520-E674-4B34-A20C-9486B53C8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8DF2-2C73-41D8-8BBB-748AE2F5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50AF-F1CE-4DA1-B108-659B316F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6A62-72FF-4083-972A-CB9ED455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9241-3E8D-404F-A316-15EE9999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2DC2-6A11-46EA-AEF5-65D524D3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A83F-2008-468F-812A-14389840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421B-98D6-4C85-A58B-4857741D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8BC1-D426-468C-9863-291F4867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2628-0116-41CF-BD9E-40CF4D09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6C3D-E398-4D42-A059-6624E990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F88D-8079-4273-9579-D6F145A49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60BF-93AE-40FB-BACB-3A0F7305A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F4D6B-9D7D-4C9A-AEDA-05E552B2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4F021-B73E-4CC0-AC67-EE9BE8CF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173DB-2146-42E8-A9F5-C120176E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80A49-A9F6-4BF3-BBEB-4A995C58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E2F54-D3B5-4641-B1C8-5F21A0C3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FC04-601D-4B83-BC20-92100A41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9746F-0B4D-42D6-A51F-81310A7E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FCB7F-1673-4D7C-A3C5-2170B9CD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3D188-CB2A-4C5F-82EC-44D75C37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33C2B-4887-4605-9A35-201D815C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44A3D-CF93-4469-A3B3-1A1104A5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7040D-DD3E-45F5-B580-D6C636BD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0D278-9466-466B-8C52-3E16CCFFC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9EB64-510C-43BE-AC23-6EE1BA404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C12C1-959F-4AF7-AF0E-46B5DB9B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1E104-B9EC-4393-B123-EC57C83B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116F-D545-43E1-AA0D-5B2D7B9B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D70DA-F058-4C97-8B3A-D483A133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985B2-E07D-48F7-A34B-EFA9526B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DE07F-D5D1-4B09-B0E9-E8CC0A19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AE1D8-11C6-4DD3-9563-545EADC9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810C2-0A0F-402D-A4C5-9790320B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BF149-96FA-444C-84F4-A8A766BD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12FA1-EE5F-4241-A736-22EA4258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B7125-CBD7-4768-9295-4AF5BEFA5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9FBA0-15EF-4FBA-8591-2015D9D2C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27E7-2BB3-4C81-8AD1-FA8C4E39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8CF8-01B0-4FE1-ACEB-1C34BDDC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6354-61D9-4584-9B47-4EC3547F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DC52-A9E0-4F10-98EC-26213BC2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270D-68B7-4F01-8BF0-0EA725CF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87AB-E0E1-4CDC-9582-4CB2F60BDC7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5376-018F-493E-B0E2-F7D817DC7A4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F35C-1BC5-49A1-BE80-FDD452C9A77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8DF5-6485-47E0-BE6E-88FDA7BA24E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Form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Notes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3) issued in 2015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4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5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7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4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237,725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14,867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hree Tandem fatalities in 2014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01,20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42,415 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(1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2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1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2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2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6983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 bridle entanglement with camer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lmet after unstable reserve activat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ow radical turn, high impact with water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using lung damage and death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stability, no Main deployment, AAD activate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, freebag caught on jumper, insuffici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ight for reserve deployment, reserve line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rapped under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jumper’s arm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1    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25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6 - 19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s iss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nd Canopy Collision – each a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4 – 13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3 – 10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39% of total fatalities, 3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0 (65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1 (35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6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3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4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39% of 3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640"/>
            <a:ext cx="8229600" cy="33415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75,020 Solo jumps – 1,162,7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3 ; Solo Fatalities 28 (3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6-01-14T20:42:49Z</dcterms:modified>
  <cp:revision>105</cp:revision>
  <dc:subject/>
  <dc:title>SAFETY &amp; TRAINING FORUM 25 January 2003</dc:title>
</cp:coreProperties>
</file>