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BAA20-E74D-40AC-A8BB-222A815E8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7CC5-1E6C-443B-9398-A020B2BB8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F3B7-8FFC-4654-BB46-142777620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DB86-4A18-4231-90CF-FEB218EB5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D4C4-A754-41A2-812C-198CBF7BE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D7630-6D1E-4E93-92E1-6AFC0E844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11955-FC0C-4FFD-862C-077E4B745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131A3-12C0-4DCE-88AB-BE37BC9F1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FD21F-F00B-45C1-BB58-A4092FA8B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56C27-EA63-42BE-AF93-B4132ECED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AC382-2C66-4F6F-A606-B912439B8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AB313-D544-44BB-B4A1-E8C95457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0D33-6C5F-4D0B-8F65-2D3E683BE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F4490-331A-4437-AF0A-6615B1F1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3DD12-BBAC-4E64-BE2B-0193A925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F9F79-9077-44F2-8589-799EAB35A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CE15C-B54C-41A2-9A67-207E75E7A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91D3C-32F2-424C-BEB0-76B693FD1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F9D6-C6EC-4DDD-9E4E-DDA1B110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2FFD-2C16-4D29-9B0B-AB03F14CA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62FA-B024-4160-8903-89401A63A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F2B2-228F-42BB-A440-49A46DDBF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38DB-93F0-4922-99FB-C00D3FF2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B5A4-2DF3-473E-AD3C-B675169B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FAD9-71B1-4F80-9FA4-91459FAB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ADFA3-712A-488D-A0F1-499CAA3DFA6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0EFCB-E35C-4469-A63C-CE36B044D0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4.jpeg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55640" y="549360"/>
            <a:ext cx="331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59054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2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7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230,563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059,937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53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98,690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9,999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53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1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1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1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6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4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4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71640" y="1196640"/>
            <a:ext cx="7423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Equipment Problem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Unexplained jumper incapacity, main deployed, no input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edical Condition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malfunction, no action, spiralled to ground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Cutaway handle pulled, main released, no reserve pull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/reserve entanglement, after AAD fire at fast land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/reserve entanglement after cutaway,  3-ring trapped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AFF Jump, student limp in harness at 300m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Collision with aircraft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cutaway by student at 50m, too low for reserve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ast spirals to ground, jumper may have been incapacitated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lag jump, flag escaped and obscured handles, no pull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Reserve opened incorrectly due to unstable position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Landed in tree, killed during rescue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canopy malfunction on land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Total 4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1"/>
          <a:stretch/>
        </p:blipFill>
        <p:spPr>
          <a:xfrm>
            <a:off x="6948360" y="18900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5280" y="2349360"/>
            <a:ext cx="83534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10 – 1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 6 – 11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Main Canopy  Activation  5 – 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Cutaway &amp; Reserve Activ. 5 – 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000" y="1918800"/>
            <a:ext cx="800244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53 fatalities (74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22 of the 53 fatalities (42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53 fatalities (19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53 fatalities (7%) appear to have been caused by human error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5 (9.4%)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of the 53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3 ( 5.7%) of the 53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4167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here was a very wide range of causes of fatalities in 2012, but the underlying factor appears to have been non-adherence to standard and fundamental practi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, 19 – 36%, resulting from canopy handling and landing issues – a continuing concer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4,276,101 Solo jumps – 954,462 Tand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8.2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Solo Jumps - 22.3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he ratio of Tandem to all jumps and to solo jumps is steadily increasing since 20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3 (5.7%)       Solo Fatalities 50 (94.3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99640" y="1557000"/>
            <a:ext cx="7543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Power Point presentation and the full 2012 Safety Report, have been sent by e-mail to all respondents and to all other countries for which there are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2 Safet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2 Safet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3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3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5) issued in 2013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12 are requested to make a special effort to do so for 2013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7020000" y="765000"/>
            <a:ext cx="1328760" cy="7700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 </cp:lastModifiedBy>
  <dcterms:modified xsi:type="dcterms:W3CDTF">2014-01-22T19:15:56Z</dcterms:modified>
  <cp:revision>66</cp:revision>
  <dc:subject/>
  <dc:title>SAFETY &amp; TRAINING FORUM 25 January 2003</dc:title>
</cp:coreProperties>
</file>