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194F-FE56-45EE-B77E-50EC6B787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850E-6B9F-425A-8735-E5DDB22CB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C029-9D52-48B7-8AA1-0089D8E11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44E9-35C1-4650-84D7-6EC3977B7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C215-E939-41B7-B97E-70BB83FD8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53E6-D7AE-4E40-8BBB-95DCE3823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4FB2-E8AA-4AD9-811A-DF64CF62D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A7DC-6D6C-41C0-A59A-176B933D0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833D-884F-478C-9A0B-758EBE4EB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7B8F-3DCF-4B1C-8CA6-B9E8C834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B050-E61B-4E60-85E4-BE2A7871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E430-C311-473F-A573-DC3CA0F1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94B8D-0CC8-4299-AE0E-240A476FB90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nada-bonn.de/" TargetMode="External"/><Relationship Id="rId2" Type="http://schemas.openxmlformats.org/officeDocument/2006/relationships/hyperlink" Target="http://www.nadamed.de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74872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FAI Anti-Doping in Airsports 2013</a:t>
            </a:r>
            <a:br>
              <a:rPr sz="4000"/>
            </a:br>
            <a:br>
              <a:rPr sz="4000"/>
            </a:b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-Aspects of the WADA Policy</a:t>
            </a:r>
            <a:br>
              <a:rPr sz="2800"/>
            </a:b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-How do I find Info about forbidden medication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99640" y="4508640"/>
            <a:ext cx="7272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Juergen K Knuep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esident FAI Medico-Physiological Com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DICARD 2013  / Taschenka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Inhaltsplatzhalter 10" descr="NADA TK 2013 b 001.jpg"/>
          <p:cNvPicPr/>
          <p:nvPr/>
        </p:nvPicPr>
        <p:blipFill>
          <a:blip r:embed="rId1"/>
          <a:stretch/>
        </p:blipFill>
        <p:spPr>
          <a:xfrm>
            <a:off x="297000" y="957240"/>
            <a:ext cx="3987720" cy="5567400"/>
          </a:xfrm>
          <a:prstGeom prst="rect">
            <a:avLst/>
          </a:prstGeom>
          <a:ln w="0">
            <a:noFill/>
          </a:ln>
        </p:spPr>
      </p:pic>
      <p:pic>
        <p:nvPicPr>
          <p:cNvPr id="64" name="Inhaltsplatzhalter 11" descr="NADA TK 2013.jpg"/>
          <p:cNvPicPr/>
          <p:nvPr/>
        </p:nvPicPr>
        <p:blipFill>
          <a:blip r:embed="rId2"/>
          <a:stretch/>
        </p:blipFill>
        <p:spPr>
          <a:xfrm>
            <a:off x="4572000" y="936720"/>
            <a:ext cx="4321080" cy="57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4284720" y="3284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2124000" y="981000"/>
            <a:ext cx="489744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ff"/>
                </a:solidFill>
                <a:latin typeface="Arial"/>
              </a:rPr>
              <a:t>Comments,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600" spc="-1" strike="noStrike">
                <a:solidFill>
                  <a:srgbClr val="3333ff"/>
                </a:solidFill>
                <a:latin typeface="Arial"/>
              </a:rPr>
              <a:t>?       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6164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147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asic WADA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43164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lympic Committee, UNESC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overnments, NADO, Intern. Fed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Doping Free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Sport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rovide a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Doping free Competition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Health 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trict Liability RULE 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gt;&gt;&gt; Athletes, Trainer, Presi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EGAL IMPLICATIONS: “Club Contract“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 national law applied! – CAS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(Abrbitrat. Cou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bserve Principl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try to use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common sense !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Read and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understand: WADA CODE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ll Sports are treated equally!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No Exemptions granted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0" y="1628280"/>
            <a:ext cx="4392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MPLIANCE: otherwise no support, no subsidy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 champ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All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thletes are basically tested </a:t>
            </a: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for all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the same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sub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nciple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-Competition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UT of Compet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ARGET Te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TP: Registered Test Pool (1/7/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sk Assessmen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. Reputation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. Price-Money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. Known Drug Use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4. Options for Perform. Enha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8146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Basic WADA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43164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Doping Free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Spor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Doping free Competition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trict Liability RULE“ 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(keine Unschuldsvermutung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No national law appl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ll Sports are treated eq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1280" y="1628280"/>
            <a:ext cx="4392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thletes are tested </a:t>
            </a: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All for the same substance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No Exemptions grant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ll have to sign “COMPLIANCE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otherwise no support, no subsi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nciple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IN-Competition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OUT of Competition (RTP 1/7/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ARGET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Points to think ab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thlete´s Intention to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win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n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Use of options for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ncreasing pre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ilitary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Aviation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istory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Stimu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ttitud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of seniors and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ifference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in Spor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i.e.  Golf vs Cycl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ritique on Web: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Human Rights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ADA System in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ommon Sense“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What to do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425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M,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ti Doping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-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mmiss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(5/electe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-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earin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Group</a:t>
            </a: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(3 /lawj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-Secretariat &gt;&gt;&gt; </a:t>
            </a: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ADMIN only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at. Fed. Anti Doping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U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P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AMS 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opera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B-Info Page (www.WADA.C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3280" y="162864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ai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ea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vent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orld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blem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gistered Test P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ot Spots,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periences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ssignin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op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ney,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duca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&amp;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ADO Con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Strategic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wareness of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th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ad th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WADA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lect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competent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Develop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specific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ederation AD-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lways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suppor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Ath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mprov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Atti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vid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Information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DICARD 2013  / Taschenka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Inhaltsplatzhalter 10" descr="NADA TK 2013 b 001.jpg"/>
          <p:cNvPicPr/>
          <p:nvPr/>
        </p:nvPicPr>
        <p:blipFill>
          <a:blip r:embed="rId1"/>
          <a:stretch/>
        </p:blipFill>
        <p:spPr>
          <a:xfrm>
            <a:off x="297000" y="957240"/>
            <a:ext cx="3987720" cy="5567400"/>
          </a:xfrm>
          <a:prstGeom prst="rect">
            <a:avLst/>
          </a:prstGeom>
          <a:ln w="0">
            <a:noFill/>
          </a:ln>
        </p:spPr>
      </p:pic>
      <p:pic>
        <p:nvPicPr>
          <p:cNvPr id="59" name="Inhaltsplatzhalter 11" descr="NADA TK 2013.jpg"/>
          <p:cNvPicPr/>
          <p:nvPr/>
        </p:nvPicPr>
        <p:blipFill>
          <a:blip r:embed="rId2"/>
          <a:stretch/>
        </p:blipFill>
        <p:spPr>
          <a:xfrm>
            <a:off x="4572000" y="936720"/>
            <a:ext cx="4321080" cy="574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8075520" cy="993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000000"/>
                </a:solidFill>
                <a:uFillTx/>
                <a:latin typeface="Arial"/>
              </a:rPr>
              <a:t>i.e.: References German NADA </a:t>
            </a:r>
            <a:br>
              <a:rPr sz="4000"/>
            </a:b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0228 / 812 92  1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1600200"/>
            <a:ext cx="84358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Prohibited List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(german / englis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nada-bonn.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Medication-Data-Bank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–online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nadamed.d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auch Iphone-Ap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DICARD 2013  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Taschenka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2T17:48:11Z</dcterms:created>
  <dc:creator>Fustis</dc:creator>
  <dc:description/>
  <dc:language>en-US</dc:language>
  <cp:lastModifiedBy>Fustis</cp:lastModifiedBy>
  <dcterms:modified xsi:type="dcterms:W3CDTF">2014-05-08T09:15:36Z</dcterms:modified>
  <cp:revision>38</cp:revision>
  <dc:subject/>
  <dc:title>World Anti Doping ISSUES  2012</dc:title>
</cp:coreProperties>
</file>